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83C-CE3F-4236-89F0-66A8CE6A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ACF3-0BB5-4B23-9A93-82D28743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F74-1EFA-4C89-A44E-24820412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06F-916F-4A7D-8145-5660079F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EB1-5F74-41A6-872F-908C8A15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696-D54E-4A94-B334-826CAAC7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2F7-9812-4A81-90DD-7106FD8B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B5E-DD64-4D51-BDDB-59986928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22B-46B7-4632-8993-071794F1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0ED-07D5-4429-9C01-74533E5B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5F3-67C5-4401-91DA-DACFD908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7DBC-3C7E-4EA1-93C0-60707238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3156-CA84-4DBB-8573-D4262ED95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Field Tr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field trips are designed to have students take a guided tour through the web of places around the county for a online learning exper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 – Cost efficient, you can explore over 1,000 different places throughout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orporates technology into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 – Hands on and getting the full effect of the places you are vie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00:02:05Z</dcterms:created>
  <dc:creator>Jamie Kuni</dc:creator>
  <dc:description/>
  <dc:language>en-US</dc:language>
  <cp:lastModifiedBy>Jamie Kuni</cp:lastModifiedBy>
  <dcterms:modified xsi:type="dcterms:W3CDTF">2009-07-27T00:43:02Z</dcterms:modified>
  <cp:revision>3</cp:revision>
  <dc:subject/>
  <dc:title>Slide 1</dc:title>
</cp:coreProperties>
</file>